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9384-DCE7-4277-9326-F72C409AF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ubjectivity, e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459-7CBE-42B4-A2B1-82845F08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CA3-2770-46FF-AFDF-3EC4B8C4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35B-3EAA-4494-A4DD-7B4DC46A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CAE-4DF7-495A-833F-DDC1F9DC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E98-140A-447E-A2F5-6C0193FA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5F1-7AA9-42A8-8AEC-C3B85059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9C3-9107-4975-B6BF-EBF6ECCD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12D-643A-4E46-8E68-BAF104E8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B4B-DB54-4F3E-91B7-B4C2D4B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A20-5F72-4EDD-958E-CEF66533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E82-422E-413D-AC2C-8FE2DEE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FBA-D47F-4772-B964-55A63A4D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7C32-EA21-433D-A759-CD0554D3E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10.png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219320"/>
            <a:ext cx="7486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ING IS EVERYTHING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990720"/>
            <a:ext cx="74674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o OGSM fo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lled in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al battle because we are adding work to people’s plate tempora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on 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news:  an option is better than no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JOHNSONJOHN" descr=""/>
          <p:cNvPicPr/>
          <p:nvPr/>
        </p:nvPicPr>
        <p:blipFill>
          <a:blip r:embed="rId1"/>
          <a:stretch/>
        </p:blipFill>
        <p:spPr>
          <a:xfrm>
            <a:off x="3581280" y="6324480"/>
            <a:ext cx="228600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1828800"/>
          <a:ext cx="75438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438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572000" y="380880"/>
            <a:ext cx="3809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fini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Measures the number of orders delivered on time or before the customer’s Requested Arrival Date (RAD) divided by the total number of orders with a RAD and delivery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Y Metric will reflect Full Truck only.  LTL performance will be tracked as well as we determine the best strateg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1800" y="361800"/>
            <a:ext cx="1543320" cy="1238400"/>
          </a:xfrm>
          <a:prstGeom prst="rect">
            <a:avLst/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04920"/>
            <a:ext cx="1523880" cy="121896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n Tim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61800"/>
            <a:ext cx="2057400" cy="1238400"/>
          </a:xfrm>
          <a:prstGeom prst="rect">
            <a:avLst/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304920"/>
            <a:ext cx="1981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Jun 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8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467480" y="1905120"/>
            <a:ext cx="762120" cy="666720"/>
            <a:chOff x="7467480" y="1905120"/>
            <a:chExt cx="762120" cy="666720"/>
          </a:xfrm>
        </p:grpSpPr>
        <p:sp>
          <p:nvSpPr>
            <p:cNvPr id="57" name=""/>
            <p:cNvSpPr/>
            <p:nvPr/>
          </p:nvSpPr>
          <p:spPr>
            <a:xfrm>
              <a:off x="7664400" y="2190960"/>
              <a:ext cx="304560" cy="380880"/>
            </a:xfrm>
            <a:prstGeom prst="upArrow">
              <a:avLst>
                <a:gd name="adj1" fmla="val 50000"/>
                <a:gd name="adj2" fmla="val 31265"/>
              </a:avLst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67480" y="1905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505320" y="2590920"/>
            <a:ext cx="16761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TRUCK 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505320"/>
            <a:ext cx="53341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200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Stretch Go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Problem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990720"/>
            <a:ext cx="6705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ipping 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ty Logistics Provider making priority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ckie c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00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733920"/>
            <a:ext cx="6705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ize orders dropped and only drop to total case and total line capacit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 DR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OAD PLAN &amp; P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decision model at 7pm; if over capacity, put non prioritized orders on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OHNSONJOHN" descr=""/>
          <p:cNvPicPr/>
          <p:nvPr/>
        </p:nvPicPr>
        <p:blipFill>
          <a:blip r:embed="rId1"/>
          <a:stretch/>
        </p:blipFill>
        <p:spPr>
          <a:xfrm>
            <a:off x="3581280" y="6324480"/>
            <a:ext cx="2286000" cy="4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086600" y="609480"/>
          <a:ext cx="1824120" cy="24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609480"/>
                    <a:ext cx="18241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ictures are our fri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D07153_" descr=""/>
          <p:cNvPicPr/>
          <p:nvPr/>
        </p:nvPicPr>
        <p:blipFill>
          <a:blip r:embed="rId1"/>
          <a:stretch/>
        </p:blipFill>
        <p:spPr>
          <a:xfrm>
            <a:off x="0" y="5361120"/>
            <a:ext cx="1368360" cy="1496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3657600"/>
            <a:ext cx="1066680" cy="1752480"/>
          </a:xfrm>
          <a:prstGeom prst="wedgeEllipseCallout">
            <a:avLst>
              <a:gd name="adj1" fmla="val 29166"/>
              <a:gd name="adj2" fmla="val 68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r. Wal-mart, you want 5 gallons of KY Je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BD07153_" descr=""/>
          <p:cNvPicPr/>
          <p:nvPr/>
        </p:nvPicPr>
        <p:blipFill>
          <a:blip r:embed="rId2"/>
          <a:stretch/>
        </p:blipFill>
        <p:spPr>
          <a:xfrm>
            <a:off x="993600" y="5354640"/>
            <a:ext cx="1368720" cy="1496880"/>
          </a:xfrm>
          <a:prstGeom prst="rect">
            <a:avLst/>
          </a:prstGeom>
          <a:ln w="0">
            <a:noFill/>
          </a:ln>
        </p:spPr>
      </p:pic>
      <p:pic>
        <p:nvPicPr>
          <p:cNvPr id="73" name="BD07153_" descr=""/>
          <p:cNvPicPr/>
          <p:nvPr/>
        </p:nvPicPr>
        <p:blipFill>
          <a:blip r:embed="rId3"/>
          <a:stretch/>
        </p:blipFill>
        <p:spPr>
          <a:xfrm>
            <a:off x="1908000" y="5354640"/>
            <a:ext cx="1368720" cy="1496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66680" y="3505320"/>
            <a:ext cx="1067040" cy="1752480"/>
          </a:xfrm>
          <a:prstGeom prst="wedgeEllipseCallout">
            <a:avLst>
              <a:gd name="adj1" fmla="val 29166"/>
              <a:gd name="adj2" fmla="val 68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. Target, you want 50 gallons of KY Je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81280"/>
            <a:ext cx="1066680" cy="1752840"/>
          </a:xfrm>
          <a:prstGeom prst="wedgeEllipseCallout">
            <a:avLst>
              <a:gd name="adj1" fmla="val 7736"/>
              <a:gd name="adj2" fmla="val 68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rs. Juran, you want 69 gallons of KY Je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9060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4336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315200" y="1219320"/>
            <a:ext cx="1751760" cy="1676160"/>
            <a:chOff x="7315200" y="1219320"/>
            <a:chExt cx="1751760" cy="1676160"/>
          </a:xfrm>
        </p:grpSpPr>
        <p:grpSp>
          <p:nvGrpSpPr>
            <p:cNvPr id="79" name=""/>
            <p:cNvGrpSpPr/>
            <p:nvPr/>
          </p:nvGrpSpPr>
          <p:grpSpPr>
            <a:xfrm>
              <a:off x="7315200" y="1219320"/>
              <a:ext cx="1675800" cy="761760"/>
              <a:chOff x="7315200" y="1219320"/>
              <a:chExt cx="1675800" cy="761760"/>
            </a:xfrm>
          </p:grpSpPr>
          <p:sp>
            <p:nvSpPr>
              <p:cNvPr id="80" name=""/>
              <p:cNvSpPr/>
              <p:nvPr/>
            </p:nvSpPr>
            <p:spPr>
              <a:xfrm>
                <a:off x="7315200" y="1219320"/>
                <a:ext cx="1295280" cy="6094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67480" y="1828800"/>
                <a:ext cx="151920" cy="152280"/>
              </a:xfrm>
              <a:prstGeom prst="donut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29240" y="1828800"/>
                <a:ext cx="152280" cy="152280"/>
              </a:xfrm>
              <a:prstGeom prst="donut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610480" y="1447920"/>
                <a:ext cx="380520" cy="3808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839080" y="1828800"/>
                <a:ext cx="151920" cy="152280"/>
              </a:xfrm>
              <a:prstGeom prst="donut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080" y="1447920"/>
                <a:ext cx="1519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391160" y="2133720"/>
              <a:ext cx="1675800" cy="761760"/>
              <a:chOff x="7391160" y="2133720"/>
              <a:chExt cx="1675800" cy="761760"/>
            </a:xfrm>
          </p:grpSpPr>
          <p:sp>
            <p:nvSpPr>
              <p:cNvPr id="87" name=""/>
              <p:cNvSpPr/>
              <p:nvPr/>
            </p:nvSpPr>
            <p:spPr>
              <a:xfrm>
                <a:off x="7391160" y="2133720"/>
                <a:ext cx="1295280" cy="6094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43440" y="2743200"/>
                <a:ext cx="151920" cy="152280"/>
              </a:xfrm>
              <a:prstGeom prst="donut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05200" y="2743200"/>
                <a:ext cx="152280" cy="152280"/>
              </a:xfrm>
              <a:prstGeom prst="donut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686440" y="2362320"/>
                <a:ext cx="380520" cy="3808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040" y="2743200"/>
                <a:ext cx="151920" cy="152280"/>
              </a:xfrm>
              <a:prstGeom prst="donut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15040" y="2362320"/>
                <a:ext cx="1519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7848360" y="1295280"/>
              <a:ext cx="68544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5"/>
            <a:stretch/>
          </p:blipFill>
          <p:spPr>
            <a:xfrm>
              <a:off x="7467480" y="2209680"/>
              <a:ext cx="3949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6"/>
            <a:stretch/>
          </p:blipFill>
          <p:spPr>
            <a:xfrm>
              <a:off x="7848360" y="2286000"/>
              <a:ext cx="6854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3886200" y="3048120"/>
            <a:ext cx="2362320" cy="1676160"/>
            <a:chOff x="3886200" y="3048120"/>
            <a:chExt cx="2362320" cy="1676160"/>
          </a:xfrm>
        </p:grpSpPr>
        <p:sp>
          <p:nvSpPr>
            <p:cNvPr id="97" name=""/>
            <p:cNvSpPr/>
            <p:nvPr/>
          </p:nvSpPr>
          <p:spPr>
            <a:xfrm>
              <a:off x="3886200" y="3048120"/>
              <a:ext cx="2362320" cy="1676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8480" y="44197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19720" y="44197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24280" y="44197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44197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6400" y="44197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67280" y="44197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7"/>
            <a:stretch/>
          </p:blipFill>
          <p:spPr>
            <a:xfrm>
              <a:off x="5334120" y="3665520"/>
              <a:ext cx="87624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5334120" y="3124080"/>
              <a:ext cx="8762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9"/>
            <a:stretch/>
          </p:blipFill>
          <p:spPr>
            <a:xfrm>
              <a:off x="4457880" y="3657600"/>
              <a:ext cx="87624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0"/>
            <a:stretch/>
          </p:blipFill>
          <p:spPr>
            <a:xfrm>
              <a:off x="4495680" y="3124080"/>
              <a:ext cx="876600" cy="61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8" name=""/>
          <p:cNvGraphicFramePr/>
          <p:nvPr/>
        </p:nvGraphicFramePr>
        <p:xfrm>
          <a:off x="5715000" y="4886280"/>
          <a:ext cx="1303200" cy="1971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4886280"/>
                    <a:ext cx="13032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962520" y="4886280"/>
          <a:ext cx="1303200" cy="1971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2520" y="4886280"/>
                    <a:ext cx="13032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238880" y="4886280"/>
          <a:ext cx="1303560" cy="1971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8880" y="4886280"/>
                    <a:ext cx="130356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8600" y="2057400"/>
            <a:ext cx="3352680" cy="1143000"/>
            <a:chOff x="228600" y="2057400"/>
            <a:chExt cx="3352680" cy="1143000"/>
          </a:xfrm>
        </p:grpSpPr>
        <p:graphicFrame>
          <p:nvGraphicFramePr>
            <p:cNvPr id="116" name=""/>
            <p:cNvGraphicFramePr/>
            <p:nvPr/>
          </p:nvGraphicFramePr>
          <p:xfrm>
            <a:off x="228600" y="2057400"/>
            <a:ext cx="781200" cy="1047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28600" y="2057400"/>
                      <a:ext cx="78120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1143000" y="2133720"/>
              <a:ext cx="2438280" cy="1066680"/>
            </a:xfrm>
            <a:prstGeom prst="wedgeRoundRectCallout">
              <a:avLst>
                <a:gd name="adj1" fmla="val -64453"/>
                <a:gd name="adj2" fmla="val 1279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 can’t rely on my DC to make these decisions anym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4114800" y="457200"/>
          <a:ext cx="2971800" cy="2492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14800" y="457200"/>
                    <a:ext cx="29718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04920" y="457200"/>
            <a:ext cx="3276360" cy="1295280"/>
          </a:xfrm>
          <a:prstGeom prst="wedgeRoundRectCallout">
            <a:avLst>
              <a:gd name="adj1" fmla="val 93847"/>
              <a:gd name="adj2" fmla="val 107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only have resources to ship 70 gallons today b/c Pat is golfing not working!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752480"/>
            <a:ext cx="2438280" cy="914400"/>
          </a:xfrm>
          <a:prstGeom prst="wedgeRoundRectCallout">
            <a:avLst>
              <a:gd name="adj1" fmla="val 35546"/>
              <a:gd name="adj2" fmla="val -1013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’s ship Mrs. Juran her K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990720"/>
            <a:ext cx="7086600" cy="56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ion Variables:  Which orders to ship (195 order sam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-  Improve On Time Loading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Only drop what DC resourced to pick &amp; 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Maximize $ shipped (maybe change to maximize #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s shi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Prioritize top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Prioritize late shipments &gt;2 days 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Olive Branch, Mississippi DC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&lt;=  30,000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&lt;=  3,000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JOHNSONJOHN" descr=""/>
          <p:cNvPicPr/>
          <p:nvPr/>
        </p:nvPicPr>
        <p:blipFill>
          <a:blip r:embed="rId1"/>
          <a:stretch/>
        </p:blipFill>
        <p:spPr>
          <a:xfrm>
            <a:off x="3581280" y="6324480"/>
            <a:ext cx="228600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990720"/>
            <a:ext cx="6705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way to priorit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&amp;J closer to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L improvemen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im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rying in Tony’s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200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73392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 manual work for J&amp;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ment in Premium Premium Solver $1,4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s in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JOHNSONJOHN" descr=""/>
          <p:cNvPicPr/>
          <p:nvPr/>
        </p:nvPicPr>
        <p:blipFill>
          <a:blip r:embed="rId1"/>
          <a:stretch/>
        </p:blipFill>
        <p:spPr>
          <a:xfrm>
            <a:off x="3581280" y="6324480"/>
            <a:ext cx="228600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28800" y="4611600"/>
            <a:ext cx="99072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:00 PM E.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4611600"/>
            <a:ext cx="121932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MS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:00 AM E.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611600"/>
            <a:ext cx="144756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NDER/DROP TO 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:45 AM E.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4611600"/>
            <a:ext cx="175248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ISION MODEL PRIORITIZAT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:30 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611600"/>
            <a:ext cx="121932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C PICK/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X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038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OSED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04200" y="5526000"/>
            <a:ext cx="5257800" cy="609840"/>
          </a:xfrm>
          <a:custGeom>
            <a:avLst/>
            <a:gdLst>
              <a:gd name="textAreaLeft" fmla="*/ 920160 w 5257800"/>
              <a:gd name="textAreaRight" fmla="*/ 3812040 w 52578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640400"/>
            <a:ext cx="1295280" cy="733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RMO ORDER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5830920"/>
            <a:ext cx="1752480" cy="641520"/>
          </a:xfrm>
          <a:prstGeom prst="rect">
            <a:avLst/>
          </a:prstGeom>
          <a:solidFill>
            <a:srgbClr val="ff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unication of late ships due to clearly defined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-77040" y="2478240"/>
            <a:ext cx="7543800" cy="990360"/>
          </a:xfrm>
          <a:custGeom>
            <a:avLst/>
            <a:gdLst>
              <a:gd name="textAreaLeft" fmla="*/ 1319760 w 7543800"/>
              <a:gd name="textAreaRight" fmla="*/ 5469120 w 7543800"/>
              <a:gd name="textAreaTop" fmla="*/ 132480 h 990360"/>
              <a:gd name="textAreaBottom" fmla="*/ 8578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639800"/>
            <a:ext cx="914400" cy="1057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ERDR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:00 PM E.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1638360"/>
            <a:ext cx="1143000" cy="1057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a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:00 AM E.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639800"/>
            <a:ext cx="1523880" cy="1057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NDER to Carrier/DROP TO 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:45 AM E.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639800"/>
            <a:ext cx="205740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C PRIORITIZATTION &amp;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:00 AM &amp;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1639800"/>
            <a:ext cx="121932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C PICK/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X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1197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668600"/>
            <a:ext cx="129564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ER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164040"/>
            <a:ext cx="1752840" cy="641520"/>
          </a:xfrm>
          <a:prstGeom prst="rect">
            <a:avLst/>
          </a:prstGeom>
          <a:solidFill>
            <a:srgbClr val="ff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unication of late ships due to clearly defined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600200" cy="584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" y="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M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igh Level Proposed Proces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943600" y="609480"/>
          <a:ext cx="129528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60948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562720" y="609480"/>
            <a:ext cx="2209680" cy="1143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16:02:23Z</dcterms:created>
  <dc:creator>aloe</dc:creator>
  <dc:description/>
  <dc:language>en-US</dc:language>
  <cp:lastModifiedBy>aloe</cp:lastModifiedBy>
  <dcterms:modified xsi:type="dcterms:W3CDTF">2005-08-06T15:54:31Z</dcterms:modified>
  <cp:revision>70</cp:revision>
  <dc:subject/>
  <dc:title>OTD Path to Success</dc:title>
</cp:coreProperties>
</file>